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C9F-A3AD-4A72-9626-37C47EBD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E52-B08F-4948-842A-BBD18767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E6F-1E9B-4F31-8FF5-E42F1E94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528-94B2-4695-BDB4-BD21B67F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7B21-400A-4533-AA00-F99901B8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44B5-708A-4976-897D-1CCB1C05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8D31-3BCA-4596-8FE2-9C8AD167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1F01-0879-498A-BEBF-35B8F492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6794-3B2F-4E26-9B6E-906A7FC1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29E1-B01C-431F-BC74-AC07651F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91E7-F549-4F05-A944-79166565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14EF-2A03-41F6-84B6-98C0087A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916B-BE22-447E-9D2B-01251726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0425-C389-496F-A55D-25A7ECBF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BF66-D6FC-4858-A744-C1A31980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304C-DEEA-43C0-BE47-5C0609F7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E0E9-1EEF-48B7-A849-0BE46443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066-7843-4DE0-A3E2-E3B4E267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DB7-4AA0-47FD-85F0-A659CA04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E3F2-0B27-4826-86B6-46CBA39F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C181-2159-4046-9189-D5064235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CA1-99D7-4DFB-8454-3D7BED9B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E94-EFDF-44CF-B8CC-B2540DA2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6C3-1CCD-4EEA-AB1C-C40D8F36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DF90-CEFA-4030-A117-438D060AB53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FF7F-327A-451D-94CA-CEFA0CF352F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17.xml"/><Relationship Id="rId4" Type="http://schemas.openxmlformats.org/officeDocument/2006/relationships/slide" Target="slide21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ra’s Hou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did they know that Pip was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found a mysterious note addressed to Pi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is in the group that comes to save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rbert, Startop, and Trabb’s 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es Orlick confess to do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illing Mrs. Jo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promise that Pip makes to Magwitch before he is taken away to jail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promises to stand by him, he says “I will never stir from your side, when I am suffered to be near you. Please God, I will be as true to you as you have been to me!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does magwitch attack from the rowboa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n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2n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st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st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14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ey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attacks Pip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lge Orlic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code the hidden message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retg teaixapcots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b ahelcrs kesnic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eat Expecta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y Charles Dicke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month was it when Pip, Herbert, Magwitch, and Startop are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rc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was one of those march days when the sun shines hot and the wind blows cold- when it is summer in the light and winter in the shade.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badly did Orlick hurt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hurt his arm, but he had no major injur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Orlicks reason for seeking revenge on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claimed that Pip came between him and his lov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dare you com between me and a young woman I liked?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Orli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does Pip pick Magwitch up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MTSD</cp:lastModifiedBy>
  <dcterms:modified xsi:type="dcterms:W3CDTF">2009-03-12T15:57:56Z</dcterms:modified>
  <cp:revision>28</cp:revision>
  <dc:subject/>
  <dc:title>Are You Smarter  Than a 5th Grader?</dc:title>
</cp:coreProperties>
</file>